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CCC-5EE2-406A-A122-743FAF6E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B80-8D68-4EEB-B5C2-E643885C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0F6-A80D-49C0-94C3-B0D5DFEF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F27-F32B-45B6-8994-ADAFB9FD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AE98-DD2F-4A13-AB63-160C935E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F586-1DD5-4022-A4C8-38FF68B1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B67C-D147-4885-AE0C-E7B3C55C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1A5E-7EB7-441D-87DE-8DAF12A3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C3E6-46F6-4DFE-AE25-3CFF1D38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9A18-18B8-4FC6-B33E-68455821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84E0-3620-436E-B0EA-02AE6926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1FD-5EBA-4AD4-AF07-A5BC7A90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A135-9912-47BC-9B45-9C0CE2FB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637F-1701-4C11-885E-6A848FE2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7A92-180A-4554-B624-5A08F8FE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AEBD-C073-4E74-B993-DB7AC521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58D3-C909-4449-9445-2EC2B08C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2F5-BEAC-4F2A-B156-77731324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8BF-2D53-4E8F-8E0A-B9AFB846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95A-6CC5-4455-B1B0-5776F4EA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2C4-E20B-4C3B-A8BE-9F80EBE2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211-D21A-408C-BF09-C8232DC3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EA1-A16E-46DC-A377-A90B2650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397-2ADA-4949-9728-5AAFB3E3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D02B-9D8F-46D6-BCC5-001ADD1E26B4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180C-301E-45ED-9065-7B381E341987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162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Lewis and Clark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520" y="335268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reated by Patrick Young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29908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276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at caused this great expedition and what was the outcome or results of their trip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Key Memb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wis Merriweathe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illiam Clark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ocahontas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4797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Reason for Explor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rdered by Jeffers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Race to the West with Franc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trictly for scientific purpos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50292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Interesting Fact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nly one man killed (appendicitis)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rses got stolen by Crow Indian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roup split on the way back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wo Indians killed in fight over weapon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undreds of new specimens foun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Very successful expediti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inimal death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any new finding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09:56Z</dcterms:created>
  <dc:creator>PA Department of Education</dc:creator>
  <dc:description/>
  <dc:language>en-US</dc:language>
  <cp:lastModifiedBy>PA Department of Education</cp:lastModifiedBy>
  <dcterms:modified xsi:type="dcterms:W3CDTF">2008-05-27T14:33:27Z</dcterms:modified>
  <cp:revision>1</cp:revision>
  <dc:subject/>
  <dc:title>Lewis and Clark</dc:title>
</cp:coreProperties>
</file>